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A37-702F-4FC2-AF63-07B914C9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262F-45BF-4380-ADF0-A1200EB7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8D3-F408-40A2-AF6B-050359D4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926-99F5-4CD4-9C2B-4BD332BC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552-4766-40BB-B292-0E3D928D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430-E5B0-4246-BB28-C2508A8A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151-1972-4B23-B47E-AD633456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47F-A71B-4D7A-93C9-311D6454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620-CCB5-446C-BA17-7176D4F4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3C0-21D4-47C2-BF73-719AFE89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749-6BDB-4920-A2F7-A3E341D2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6B0-EF89-4A76-9963-FE9A0E5D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0A86-D237-4A7F-8DD1-6BF20570F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1 Sýť Slovom živo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ýť Slovom života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 milostivo ráč sa sklon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stránok Knihy kní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ýcha tvoj Du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otvoriť aj dne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zrak i sl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lieb Slova požehn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ím obživ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aždý skromný da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rozmnož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blížnych nás uč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každý vďa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ťa veleb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chlebom sýt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ísť chceme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tvojej lásky da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á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pomôž vytr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siahnuť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ť s tebou večne 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Spasit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7:13:55Z</dcterms:modified>
  <cp:revision>20</cp:revision>
  <dc:subject/>
  <dc:title>Je veľký náš Pán, on slávy je Kráľ Nech do všetkých strán  spev vrúcnych znie chvál.</dc:title>
</cp:coreProperties>
</file>